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ct" ContentType="image/x-pict"/>
  <Override PartName="/ppt/media/image3.pct" ContentType="image/x-pict"/>
  <Override PartName="/ppt/media/image4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1B96F-ECF8-4B61-9213-B78558E3C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58D86-3092-476B-B1A8-748ECB2C5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894B5-2529-4814-B111-4CE56EBA1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6F462-D4A5-409C-BCC8-5D3C50767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ADB53-7662-4567-8B50-E4B9C50B0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2BEA0-3AC2-47BD-A008-9EE19045D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A5019-5F3A-4E8C-B0CF-17B6800E5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6210E-888F-4673-856E-E98F7D25A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64D36-A741-4674-8C88-E44F868FF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29BAB-3638-4C95-A410-D4CB18959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E4E8B-B7F6-4EAD-932A-4252D80C2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C27D9-953D-46F9-BFEB-2346241C6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5216B-A7EA-4AEF-9A3F-0377AF7A4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EE4CF-8A33-49DC-AE81-A71B78529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03B36-56E2-429F-8351-40600D57E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3D137-7856-4C6C-84FB-86443EA85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4E352-9EE8-40BB-8D1C-9D45A83FC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EEC09-A1AA-4E51-82FD-11D25968F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F2ADE-B2F7-4722-ABDB-F078EABF5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4F224-EEE7-4F03-BE50-78E2645B1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484E5-AA21-4384-94B6-F74654003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939B0-CD59-4548-8926-347BA6124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CA9D7-C51B-471D-A69A-E80386EA1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3E939-B27D-4F90-9DCE-38E56AB2A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66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66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714F7-62A1-4AE0-88DF-0A4011FAA2E5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C6AD3-B504-4A99-9F24-45AA4793223F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ct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04920" y="817560"/>
            <a:ext cx="84582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Comic Sans MS"/>
              </a:rPr>
              <a:t>What compels a 21st century learner?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1523880" y="1066680"/>
            <a:ext cx="5715000" cy="41562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609480" y="304920"/>
            <a:ext cx="746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The Many Layers of Learn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0" y="533412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The many layers of a stud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1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1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7" name="Paris:Users:toni:Desktop:EDS_RunningWithTheSquirrels.mov" descr=""/>
          <p:cNvPicPr/>
          <p:nvPr/>
        </p:nvPicPr>
        <p:blipFill>
          <a:blip r:embed="rId2"/>
          <a:stretch/>
        </p:blipFill>
        <p:spPr>
          <a:xfrm>
            <a:off x="2438280" y="1905120"/>
            <a:ext cx="447048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60260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2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5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15328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gnitive Flexibility Theory</a:t>
            </a:r>
            <a:br>
              <a:rPr sz="4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. Spiro, P. Feltovitch &amp; R. Couls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0" y="1980720"/>
            <a:ext cx="4952880" cy="44197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the ability to spontaneously restructure one's knowledge, in many ways, in adaptive response to changing situational deman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emphasis is placed upon the presentation of information from multiple perspective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1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1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1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04920" y="0"/>
            <a:ext cx="8458200" cy="704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Guiding Principles of Cognitive Flexibility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1. Learning activities must provide multiple representations of conte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2. Instructional materials should avoid oversimplifying the conte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3. Instruction should emphasize knowledge construction, not transmission of informa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4. Knowledge sources should be highly interconnected rather than     compartmentaliz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1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10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10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1000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1000"/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880920" y="817560"/>
            <a:ext cx="76536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Comic Sans MS"/>
              </a:rPr>
              <a:t>In order to teach the squirrels,   you must think like the squirrels!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sh dir="r"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1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880920" y="817560"/>
            <a:ext cx="765360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Comic Sans MS"/>
              </a:rPr>
              <a:t>How do we make learning compelling for our 21st century students?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sh dir="r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1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838080" y="838080"/>
            <a:ext cx="7620120" cy="57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Comic Sans MS"/>
                <a:ea typeface="MS Pゴシック"/>
              </a:rPr>
              <a:t>What new eyes are you seeking?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990720" y="4800600"/>
            <a:ext cx="2590560" cy="16794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077320" cy="586728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omic Sans MS"/>
              </a:rPr>
              <a:t>Toni Theisen</a:t>
            </a:r>
            <a:br>
              <a:rPr sz="6000"/>
            </a:b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Loveland High School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Thompson School District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Loveland, CO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970-482-2606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dakar95@verinet.com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1T12:17:45Z</dcterms:created>
  <dc:creator>Toni Theisen</dc:creator>
  <dc:description/>
  <dc:language>en-US</dc:language>
  <cp:lastModifiedBy>Toni Theisen</cp:lastModifiedBy>
  <dcterms:modified xsi:type="dcterms:W3CDTF">2006-10-15T21:01:57Z</dcterms:modified>
  <cp:revision>28</cp:revision>
  <dc:subject/>
  <dc:title>PowerPoint Presentation</dc:title>
</cp:coreProperties>
</file>